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9D4A6-AF20-4735-876D-4D9E1221E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25CAC-876B-44B5-AE92-2F2C8BAD3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0ED64-3115-4192-A6A8-31E32F088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C0BAC-5D50-4593-8D3F-DF767268B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F599E-C9D0-4A9D-9422-7C86CC369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60B24-ECDE-45C2-AE6F-23BC1835D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E6FBC-ED24-4234-B5DD-9D75F1918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279D9-7336-40C2-8D91-211396B1B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43534-D885-4E60-9A91-FE06017D4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6CA5D-636A-4C04-BAD4-EE5CD0B7B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51315-481B-4F60-9F87-2E4AF587C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919F1-A0B6-4379-A832-B5E867360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B8922-1D38-44E3-AB32-9044F60F8CBA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agen 1" descr="Descripción: http://fjferrer.webs.ull.es/Apuntes3/Leccion02/Imagen5.10.png"/>
          <p:cNvPicPr/>
          <p:nvPr/>
        </p:nvPicPr>
        <p:blipFill>
          <a:blip r:embed="rId1"/>
          <a:stretch/>
        </p:blipFill>
        <p:spPr>
          <a:xfrm>
            <a:off x="1041480" y="755640"/>
            <a:ext cx="6915240" cy="5867280"/>
          </a:xfrm>
          <a:prstGeom prst="rect">
            <a:avLst/>
          </a:prstGeom>
          <a:ln w="0">
            <a:noFill/>
          </a:ln>
        </p:spPr>
      </p:pic>
      <p:sp>
        <p:nvSpPr>
          <p:cNvPr id="42" name="4 CuadroTexto"/>
          <p:cNvSpPr/>
          <p:nvPr/>
        </p:nvSpPr>
        <p:spPr>
          <a:xfrm>
            <a:off x="1041480" y="361800"/>
            <a:ext cx="677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FLUJO Y BALANCE ENERGÉTIC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http://www.tecnun.es/asignaturas/Ecologia/Hipertexto/04Ecosis/04-9Car.jpg"/>
          <p:cNvPicPr/>
          <p:nvPr/>
        </p:nvPicPr>
        <p:blipFill>
          <a:blip r:embed="rId1"/>
          <a:stretch/>
        </p:blipFill>
        <p:spPr>
          <a:xfrm>
            <a:off x="1041480" y="1052640"/>
            <a:ext cx="6770520" cy="5408640"/>
          </a:xfrm>
          <a:prstGeom prst="rect">
            <a:avLst/>
          </a:prstGeom>
          <a:ln w="0">
            <a:noFill/>
          </a:ln>
        </p:spPr>
      </p:pic>
      <p:sp>
        <p:nvSpPr>
          <p:cNvPr id="44" name="3 CuadroTexto"/>
          <p:cNvSpPr/>
          <p:nvPr/>
        </p:nvSpPr>
        <p:spPr>
          <a:xfrm>
            <a:off x="1041480" y="361800"/>
            <a:ext cx="677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CICLO DEL CARBON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http://3.bp.blogspot.com/-QGASZGqc5vk/T6n2ynO-0zI/AAAAAAAAAB8/pBpZsWkgR6k/s1600/Ciclo+del+nitrogeno.jpg"/>
          <p:cNvPicPr/>
          <p:nvPr/>
        </p:nvPicPr>
        <p:blipFill>
          <a:blip r:embed="rId1"/>
          <a:stretch/>
        </p:blipFill>
        <p:spPr>
          <a:xfrm>
            <a:off x="0" y="981000"/>
            <a:ext cx="9067680" cy="5734080"/>
          </a:xfrm>
          <a:prstGeom prst="rect">
            <a:avLst/>
          </a:prstGeom>
          <a:ln w="0">
            <a:noFill/>
          </a:ln>
        </p:spPr>
      </p:pic>
      <p:sp>
        <p:nvSpPr>
          <p:cNvPr id="46" name="4 CuadroTexto"/>
          <p:cNvSpPr/>
          <p:nvPr/>
        </p:nvSpPr>
        <p:spPr>
          <a:xfrm>
            <a:off x="1041480" y="361800"/>
            <a:ext cx="677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CICLO DEL NITRÓGEN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3 CuadroTexto"/>
          <p:cNvSpPr/>
          <p:nvPr/>
        </p:nvSpPr>
        <p:spPr>
          <a:xfrm>
            <a:off x="1041480" y="361800"/>
            <a:ext cx="677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CICLO DEL AGU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1014480" y="1052640"/>
            <a:ext cx="747072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18:46Z</dcterms:created>
  <dc:creator>Luffi</dc:creator>
  <dc:description/>
  <dc:language>en-US</dc:language>
  <cp:lastModifiedBy>Luffi</cp:lastModifiedBy>
  <dcterms:modified xsi:type="dcterms:W3CDTF">2014-05-22T17:51:28Z</dcterms:modified>
  <cp:revision>2</cp:revision>
  <dc:subject/>
  <dc:title>Presentación de PowerPoint</dc:title>
</cp:coreProperties>
</file>